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xplode.wav" ContentType="audio/x-wav"/>
  <Override PartName="/ppt/media/wind.wav" ContentType="audio/x-wav"/>
  <Override PartName="/ppt/media/camera.wav" ContentType="audio/x-wav"/>
  <Override PartName="/ppt/media/image2.jpeg" ContentType="image/jpeg"/>
  <Override PartName="/ppt/media/cashreg.wav" ContentType="audio/x-wav"/>
  <Override PartName="/ppt/media/applause.wav" ContentType="audio/x-wav"/>
  <Override PartName="/ppt/media/pu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E1B7-2A68-4600-944D-0AAFEBDF2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D228-7CAB-4B12-B059-9AA86FDF6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CEC4-CB31-4488-A753-852431088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BCA1-1E2F-498A-B7D5-1767566E6D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8655-7426-4029-A506-AAA8E7016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F5BA-CE12-43C1-8E94-8B212A33A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75D9-675E-48A7-912B-9437828AE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526A-1DD2-4FE8-B0A8-DCC541D2E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804C-1E23-4A30-9D24-38803EACD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A337-37E3-46D1-9EE0-F071F588C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0505-2287-4B11-A5E2-04B002323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54FC-826B-4848-8956-65FB77E96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4130-384E-4385-8768-314B7CE5A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eter Davi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  <p:sndAc>
      <p:stSnd>
        <p:snd r:embed="rId1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What Is P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Equal to the number of times a circle’s diameter will fit around 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Approximately 3.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i goes on for 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Decimals have no pattern and don’t 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i is an irration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380880" y="533520"/>
            <a:ext cx="8207640" cy="1143000"/>
            <a:chOff x="380880" y="533520"/>
            <a:chExt cx="8207640" cy="1143000"/>
          </a:xfrm>
        </p:grpSpPr>
        <p:pic>
          <p:nvPicPr>
            <p:cNvPr id="47" name="Picture 4" descr="pi1"/>
            <p:cNvPicPr/>
            <p:nvPr/>
          </p:nvPicPr>
          <p:blipFill>
            <a:blip r:embed="rId1"/>
            <a:stretch/>
          </p:blipFill>
          <p:spPr>
            <a:xfrm>
              <a:off x="7467480" y="533520"/>
              <a:ext cx="1121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pi1"/>
            <p:cNvPicPr/>
            <p:nvPr/>
          </p:nvPicPr>
          <p:blipFill>
            <a:blip r:embed="rId2"/>
            <a:stretch/>
          </p:blipFill>
          <p:spPr>
            <a:xfrm>
              <a:off x="380880" y="533520"/>
              <a:ext cx="11210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 – Early attem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1650 BC – Rhind Papyrus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Value of 3.16 probably found by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Bible – 1 Kings 7:23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Value of 3 (not very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Archimedes (287 – 212 BC)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alculated between </a:t>
            </a:r>
            <a:r>
              <a:rPr b="0" lang="af-ZA" sz="3200" spc="-1" strike="noStrike" baseline="30000">
                <a:solidFill>
                  <a:srgbClr val="000000"/>
                </a:solidFill>
                <a:latin typeface="Times New Roman"/>
              </a:rPr>
              <a:t>223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af-ZA" sz="3200" spc="-1" strike="noStrike" baseline="-25000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af-ZA" sz="32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af-ZA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1" name="explod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 – AD (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Tsu Ch’ung Chi (430 – 501 AD)</a:t>
            </a:r>
            <a:br>
              <a:rPr sz="2800"/>
            </a:br>
            <a:r>
              <a:rPr b="0" lang="af-ZA" sz="2800" spc="-1" strike="noStrike" baseline="30000">
                <a:solidFill>
                  <a:srgbClr val="000000"/>
                </a:solidFill>
                <a:latin typeface="Times New Roman"/>
              </a:rPr>
              <a:t>355</a:t>
            </a: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af-ZA" sz="2800" spc="-1" strike="noStrike" baseline="-25000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Brahmagupta (640)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Value of pi = 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 =  3,16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Al-Kashi (1430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Calculated pi to 14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Newton (1665)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Calculated pi to 16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Ferguson (1946)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Calculated pi to 620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2971800" y="380988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pull dir="d"/>
    <p:sndAc>
      <p:stSnd>
        <p:snd r:embed="rId1" name="explod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 - Compu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Ferguson (1947)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alculated to 710 places using a desk cal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Kanada &amp; Takashi (Sept 1999)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Used a computer to calculate pi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6,158,430,000 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decimal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wind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Pi and Different Cul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Earliest discoveries (BCE) and investigations made by Egyptians and Greek mathematici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Between 230 AD and 1430 AD further investigation carried out by Chinese, Indian and Arabic mathematicians  -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More recent discoveries made by Western and Japanese mathema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1" name="camera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Why is Pi so Fascina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rovides an intellectual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Because i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Lead to important discoveries in modern math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an be calculated using sequences of ration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Lead to developments in computer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  <p:sndAc>
      <p:stSnd>
        <p:snd r:embed="rId1" name="applause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Johnson, Y., Davidson, P., Jaffer, S., Galant, S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Maths for all Grade 8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. Manzini. Mcmillan Boles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Witcombe, C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Earth Mysteries: Notes on Pi.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 Retrieved 31 March 2003 from </a:t>
            </a:r>
            <a:r>
              <a:rPr b="0" lang="af-ZA" sz="2000" spc="-1" strike="noStrike">
                <a:solidFill>
                  <a:srgbClr val="ff0000"/>
                </a:solidFill>
                <a:latin typeface="Times New Roman"/>
              </a:rPr>
              <a:t>http://witcombe.sbc.edu/earthmysteries/EMP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O’Connor, J.J. &amp; Robertson, E.F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A history of pi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. Retrieved 31 March 2003 from http://www-groups.dcs.st-and.ac.uk/~history/HistTopics/Pi_through_the_ag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O’Connor, J.J. &amp; Robertson, E.F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A chronology of pi. 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Retrieved 31 March 2003 from http://www-groups.dcs.st-and.ac.uk/~history/HistTopics/Pi_chronolog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push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7:31:29Z</dcterms:created>
  <dc:creator>.</dc:creator>
  <dc:description/>
  <dc:language>en-US</dc:language>
  <cp:lastModifiedBy>Ely Family</cp:lastModifiedBy>
  <dcterms:modified xsi:type="dcterms:W3CDTF">2008-12-08T00:53:00Z</dcterms:modified>
  <cp:revision>15</cp:revision>
  <dc:subject/>
  <dc:title>History of Pi</dc:title>
</cp:coreProperties>
</file>